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1B788-78B3-413A-A873-26A8A1AF81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B84-1EDC-49F5-B6A5-6507C588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E64-62E1-465A-8DF3-F7A5394A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4F4-A294-4EB0-A325-0CBFFE29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5A23-C987-4F49-888C-FEAE546D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62D-014A-472A-9772-E802C899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079-2D71-4CCB-8D97-5F04E0A7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5C78-6730-47F7-9236-8C73474E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BA7-80DE-4264-A4BE-32F3298C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591-C0F7-45B4-AC1A-0935C7F8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161-0FF4-4ACE-87BC-5F8A7070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32A-7F91-418E-965F-7601C2C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4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8F2-EA87-44F6-8E5A-9E54BE2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8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CCE58-61E0-49FD-8EB2-54E0E1F263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ank Gothic Medium"/>
              </a:rPr>
              <a:t>The Freshman Academy</a:t>
            </a:r>
            <a:br>
              <a:rPr sz="4400"/>
            </a:br>
            <a:r>
              <a:rPr b="0" lang="en-GB" sz="3300" spc="-1" strike="noStrike">
                <a:solidFill>
                  <a:srgbClr val="000000"/>
                </a:solidFill>
                <a:latin typeface="Bank Gothic Medium"/>
              </a:rPr>
              <a:t>A Presentation by Zach Longyea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eneral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learning communities intended to meet the needs of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to address a myriad of issues schools face (To name a few..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end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iplin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29920" y="685800"/>
            <a:ext cx="90723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nd eerily vag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igu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potent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Benefi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371600"/>
            <a:ext cx="9072360" cy="58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model for students that incorporates and streamlines Special Ed. and Regular 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 focused common plann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ailure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s a smaller population within a larger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s and improves student/parent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s a successful model of t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terogeneously groups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otes cross-curricular lessons and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olves al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s students from the rest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dur="indefinite" fill="hold">
                      <p:stCondLst>
                        <p:cond delay="indefinite"/>
                      </p:stCondLst>
                      <p:childTnLst>
                        <p:par>
                          <p:cTn id="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Benefit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ably, this is vague and intendedly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other benef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reates an opportunity for all of the philosophies we have discussed to thrive and exis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dur="indefinite" fill="hold">
                      <p:stCondLst>
                        <p:cond delay="indefinite"/>
                      </p:stCondLst>
                      <p:childTnLst>
                        <p:par>
                          <p:cTn id="1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Deterrents?  A Logistical Nightma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ease think about where this could fail to laun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bout this idea stands out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could it go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Needs For Implement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emonstrated need for a restructuring of the curr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upportiv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upportive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upportive schoo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understanding of the chang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unified visio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Challenges to Implementation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1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new and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will draw resources and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edules will have to be adjusted for ever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28296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cheduling could become unwiel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run independently from the rest of th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t an ascribed model.  The term is used loos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2640" indent="-31896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will take sacri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Practical El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t has the best interest of the students as it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reating a team of educators creates a strong entity to ensure student success.  Students know who they can go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reshmen will not get lost in the proverbial shuff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it addresses many of the issues, that means less time is spent by administration man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structure is self-reg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cheduling is stream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faculty is involved in the creation of their ow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on planning time i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achers maximize their time a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s a model tha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Practical Element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an arena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essional Learning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96000"/>
              </a:lnSpc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TI, NWEA, Writing Prom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6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l, meaningful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dur="indefinite" fill="hold">
                      <p:stCondLst>
                        <p:cond delay="indefinite"/>
                      </p:stCondLst>
                      <p:childTnLst>
                        <p:par>
                          <p:cTn id="2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858960" indent="0" algn="ctr">
              <a:lnSpc>
                <a:spcPct val="96000"/>
              </a:lnSpc>
              <a:buNone/>
              <a:tabLst>
                <a:tab algn="l" pos="0"/>
                <a:tab algn="l" pos="858960"/>
                <a:tab algn="l" pos="1316160"/>
                <a:tab algn="l" pos="1773360"/>
                <a:tab algn="l" pos="2230560"/>
                <a:tab algn="l" pos="2687760"/>
                <a:tab algn="l" pos="3144960"/>
                <a:tab algn="l" pos="3602160"/>
                <a:tab algn="l" pos="4059360"/>
                <a:tab algn="l" pos="4516560"/>
                <a:tab algn="l" pos="4973760"/>
                <a:tab algn="l" pos="5430960"/>
                <a:tab algn="l" pos="5888160"/>
                <a:tab algn="l" pos="6345360"/>
                <a:tab algn="l" pos="6802560"/>
                <a:tab algn="l" pos="7259760"/>
                <a:tab algn="l" pos="7716960"/>
                <a:tab algn="l" pos="8174160"/>
                <a:tab algn="l" pos="8631360"/>
                <a:tab algn="l" pos="9088560"/>
                <a:tab algn="l" pos="9545760"/>
                <a:tab algn="l" pos="100029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I was not able to find information about the program as a whole not working.  Why do you think that is?  If it has a high success rate, wouldn't everyone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ally, students are broken up heterogeneously.  Is this preventing students from standing out or getting the services they ne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ould Special Education services work?  Would a Special Education teacher be part of the t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ould remediation (Read 180, intensive math programs, etc.) promote heterogeneity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Hist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reshman Academy was first mentioned around 1995 and 1996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 New Freshman Experien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Macala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does not seem to have a first root or origi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can we measure the success of this progr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we going to trade relationship building and support for content and curricul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29920" y="1942920"/>
            <a:ext cx="9072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justify adding a fourth year to the middle scho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this create too much iso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ill it be perceived by the other faculty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it draw too much from the rest of the organ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dur="indefinite" fill="hold">
                      <p:stCondLst>
                        <p:cond delay="indefinite"/>
                      </p:stCondLst>
                      <p:childTnLst>
                        <p:par>
                          <p:cTn id="2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dur="indefinite" fill="hold">
                      <p:stCondLst>
                        <p:cond delay="indefinite"/>
                      </p:stCondLst>
                      <p:childTnLst>
                        <p:par>
                          <p:cTn id="3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be careful when reforming our entire school...I know.  This is not really a question—it is more of a statement and a w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shman Academies place a strong emphasis on the faculty team leading.  With autonomy like this, where else could this g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could this possibly be regul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dur="indefinite" fill="hold">
                      <p:stCondLst>
                        <p:cond delay="indefinite"/>
                      </p:stCondLst>
                      <p:childTnLst>
                        <p:par>
                          <p:cTn id="3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Ethics and Big Question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we really addressing the needs of our students, or are we addressing the need for a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make sure the goal i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dur="indefinite" fill="hold">
                      <p:stCondLst>
                        <p:cond delay="indefinite"/>
                      </p:stCondLst>
                      <p:childTnLst>
                        <p:par>
                          <p:cTn id="3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dur="indefinite" fill="hold">
                      <p:stCondLst>
                        <p:cond delay="indefinite"/>
                      </p:stCondLst>
                      <p:childTnLst>
                        <p:par>
                          <p:cTn id="3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7840" y="1600200"/>
            <a:ext cx="90723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lark, C., et. al., Freshman Academies on a Shoestring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al Leadership (Middle School Ed.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. 7 no. 7 (March 2007) p. 41, 43, 4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olland, H., et. al., Where everybody knows your name [freshman academy to help ninth-grader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ke a smoother transition from middle school to high school]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hi Delta Kappa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v. 83 no. 4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December 2001) p. 294-3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ulk, B. M. Concerns About Ninth-Grade Students' Poor Academic Performance: One School'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ction Plan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merican Secondary Educa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v. 31 no. 2 (Spring 2003) p. 8-2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acala, W. F. A New Freshman Experience.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al Leadership (High School Ed.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v. 2 no. 6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(February 2002) p. 27-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chlechty, P. C. (May 14, 1997).  Common Misunderstandings.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ducation Week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eprinted with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ermission from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nventing Better Schools: An Action Plan for Educational Reform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, by Phillip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. Schlechty. Copyright 1997 Jossey-Bass Inc., Publishers.  Retrieved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www.edweek.org/ew/articles/1997/05/14/33schlec.h16.html?r=83115410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351000"/>
                <a:tab algn="l" pos="706320"/>
                <a:tab algn="l" pos="1060560"/>
                <a:tab algn="l" pos="1415880"/>
                <a:tab algn="l" pos="1773360"/>
                <a:tab algn="l" pos="2128680"/>
                <a:tab algn="l" pos="2482920"/>
                <a:tab algn="l" pos="2838600"/>
                <a:tab algn="l" pos="3200400"/>
                <a:tab algn="l" pos="3551400"/>
                <a:tab algn="l" pos="3906720"/>
                <a:tab algn="l" pos="4260960"/>
                <a:tab algn="l" pos="4343400"/>
                <a:tab algn="l" pos="5062680"/>
                <a:tab algn="l" pos="5786280"/>
                <a:tab algn="l" pos="6510240"/>
                <a:tab algn="l" pos="7234200"/>
                <a:tab algn="l" pos="795816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Reason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9920" y="1639800"/>
            <a:ext cx="9072360" cy="60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The transition between middle and high school is diffic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Physically and emotionally cha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Different setting with different expectations and experi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Generally they are moving from a schooling model that is supportive and nurturing to one that is designed to usher students into adult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Academics are going to be challe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  <a:ea typeface="Arial"/>
              </a:rPr>
              <a:t>Young teenagers are immersed with older  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Reasoni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reshman Academy recreates a teaming model designed to facilitate and support the transitioning student's su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provides another network of support that benefits all students involved with the Acade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Why Creat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hools that have created successful Freshman Academies have done so because they faced obstacles that were impedi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The Common Factors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ilure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sentee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iplin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rge student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Create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455480"/>
            <a:ext cx="907236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t me dip into my Progressivist mind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have seen the factors that lead into the creation and implementation of a Freshman Academ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y briefly (and somewhat idealistically) outline a model you think could work.  (Remember that we are dealing with a perfect educational world where everything works out how we want it to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-Please take 5 minutes to complete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Anything to Shar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143000"/>
            <a:ext cx="907236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id you come up wi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271440"/>
            <a:ext cx="907236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Bank Gothic Medium"/>
              </a:rPr>
              <a:t>Elements of a Freshman Academ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Please remember that every model is different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am of core teachers with common plann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ission/vision created by members of 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ulty that is committed to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upportiv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modified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